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925E-9068-4E69-AC26-1C0C4FC1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4125-07E7-474C-BA0E-6923A3D1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D1BA-4C07-4B26-BA45-CAF08E24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EFDC-1907-46BC-8138-A1CB9196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49F2-5653-406E-BA68-7590F98D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90C1-F522-4CD6-B4CE-AD9FFFEE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17B0-CF89-430B-A542-0F766688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C7FC-1455-45EE-87DF-0119E219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4745-18B5-42FD-BB32-AF6CF6EF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C3C7-69C9-4F3F-A53C-1D711ED8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FB17-0021-46C8-817E-410D8A7F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17F-F9CA-43C2-9F41-84C9F524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DA7A-EB5F-48C8-81D2-C84F8C88B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askerville Old Face"/>
              </a:rPr>
              <a:t>Tools for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428004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Bernard MT Condensed"/>
              </a:rPr>
              <a:t>The Science of Yo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Baskerville Old Face"/>
              </a:rPr>
              <a:t>Yoga and play stimulate the secretion of dopamine and DHEA igniting joy (feel good hormones that improve moo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Baskerville Old Face"/>
              </a:rPr>
              <a:t>Visualization slows brain waves, allowing the nervous system to recharge and integrate the activity between both brain hemispheres of the brain When done on a regular basis, Yoga Tools bring greater harmony and ease to the learning environment and process for teachers and students, by giving the mind-body system what it needs to perform more optim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Bernard MT Condensed"/>
              </a:rPr>
              <a:t>Four Yoga Tools for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Baskerville Old Face"/>
              </a:rPr>
              <a:t>Brea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Baskerville Old Face"/>
              </a:rPr>
              <a:t>Yo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Baskerville Old Face"/>
              </a:rPr>
              <a:t>Time-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Baskerville Old Face"/>
              </a:rPr>
              <a:t>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191120" y="2057400"/>
            <a:ext cx="38098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Bernard MT Condensed"/>
              </a:rPr>
              <a:t>Breathing</a:t>
            </a:r>
            <a:r>
              <a:rPr b="0" lang="en-US" sz="4000" spc="-1" strike="noStrike">
                <a:solidFill>
                  <a:srgbClr val="ff00ff"/>
                </a:solidFill>
                <a:latin typeface="Bernard MT Condensed"/>
              </a:rPr>
              <a:t>-</a:t>
            </a:r>
            <a:r>
              <a:rPr b="0" lang="en-US" sz="2800" spc="-1" strike="noStrike">
                <a:solidFill>
                  <a:srgbClr val="ff00ff"/>
                </a:solidFill>
                <a:latin typeface="Bernard MT Condensed"/>
              </a:rPr>
              <a:t>”</a:t>
            </a:r>
            <a:r>
              <a:rPr b="0" lang="en-US" sz="2800" spc="-1" strike="noStrike">
                <a:solidFill>
                  <a:srgbClr val="ff00ff"/>
                </a:solidFill>
                <a:latin typeface="Lucida Calligraphy"/>
              </a:rPr>
              <a:t>Yoga and Breath are On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Baskerville Old Face"/>
              </a:rPr>
              <a:t>The ability to breathe fully and deeply builds strength, healthy, presence, calm and focus.  The more you fuel the brain and body with oxygen, the better it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Baskerville Old Face"/>
              </a:rPr>
              <a:t>Knowing how to use one’s breath to shift one’s mental and physical state is a valuable life skill that lays the foundation for personal health and responsi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Baskerville Old Face"/>
              </a:rPr>
              <a:t>Conscious breathing brings us into balance and an awareness of ourselves, giving us the opportunity to slow down, center and make behavioral choices from a non-reactive, reflective, integrated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Bernard MT Condensed"/>
              </a:rPr>
              <a:t>Yoga-</a:t>
            </a:r>
            <a:r>
              <a:rPr b="0" lang="en-US" sz="3000" spc="-1" strike="noStrike">
                <a:solidFill>
                  <a:srgbClr val="9999ff"/>
                </a:solidFill>
                <a:latin typeface="Lucida Calligraphy"/>
              </a:rPr>
              <a:t>”</a:t>
            </a:r>
            <a:r>
              <a:rPr b="0" lang="en-US" sz="2800" spc="-1" strike="noStrike">
                <a:solidFill>
                  <a:srgbClr val="9999ff"/>
                </a:solidFill>
                <a:latin typeface="Lucida Calligraphy"/>
              </a:rPr>
              <a:t>Unity of Mind, Body and Breath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Baskerville Old Face"/>
              </a:rPr>
              <a:t>Yoga postures activate full body-mind coordination, waking up the whole brain and stimulating every system in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Baskerville Old Face"/>
              </a:rPr>
              <a:t>Yoga postures help develop: awareness, strength, flexibility, balance, coordination, and foc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Baskerville Old Face"/>
              </a:rPr>
              <a:t>Yoga postures are fun and non-compet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Baskerville Old Face"/>
              </a:rPr>
              <a:t>Yoga can be done almost anywhere, with no equipment, and even in your chai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2670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Bernard MT Condensed"/>
              </a:rPr>
              <a:t>Time-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cc66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ff"/>
                </a:solidFill>
                <a:latin typeface="Baskerville Old Face"/>
              </a:rPr>
              <a:t>Time-In refers to the time spent with an internal rather than an external foc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cc66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ff"/>
                </a:solidFill>
                <a:latin typeface="Baskerville Old Face"/>
              </a:rPr>
              <a:t>Time-In is the first step to awareness and conscious 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cc66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ff"/>
                </a:solidFill>
                <a:latin typeface="Baskerville Old Face"/>
              </a:rPr>
              <a:t>Time-In can be done sitting up, or lying down, in silence, listening to a visualization, or soothing music, or while just breath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cc66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ff"/>
                </a:solidFill>
                <a:latin typeface="Baskerville Old Face"/>
              </a:rPr>
              <a:t>Time-In relaxes the body; restores and balances the nervous system; connects one’s to one’s thoughts and feelings; develops awareness and non-reactivity; cultivates creativity and the use of inner resources; promotes harmony and communi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cc66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ff"/>
                </a:solidFill>
                <a:latin typeface="Baskerville Old Face"/>
              </a:rPr>
              <a:t>Brain waves automatically slow dow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cc66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ff"/>
                </a:solidFill>
                <a:latin typeface="Baskerville Old Face"/>
              </a:rPr>
              <a:t>Time-Out can be replaced with Time-In as a way to support self-discipline and personal responsibi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cc66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ff"/>
                </a:solidFill>
                <a:latin typeface="Baskerville Old Face"/>
              </a:rPr>
              <a:t>Time-In encourages kids to practice personal responsibility by giving them a chance to breathe, feel and release whatever feelings are bothering them.  Then, they can re-center, make an inner attitude adjustment and return to the class ready to particip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35880" y="304920"/>
            <a:ext cx="160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66"/>
                </a:solidFill>
                <a:latin typeface="Bernard MT Condensed"/>
              </a:rPr>
              <a:t>G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Baskerville Old Face"/>
              </a:rPr>
              <a:t>Play-”Nature’s biological plan for learning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Baskerville Old Face"/>
              </a:rPr>
              <a:t>Games can be used as warm-ups, rewards, energizers, organizers or just plain f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442440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Yoga Ed. Man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600200"/>
          <a:ext cx="8229600" cy="50641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Brea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9966ff"/>
                          </a:solidFill>
                          <a:uFillTx/>
                          <a:latin typeface="Arial"/>
                        </a:rPr>
                        <a:t>G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ff"/>
                          </a:solidFill>
                          <a:uFillTx/>
                          <a:latin typeface="Arial"/>
                        </a:rPr>
                        <a:t>Yo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800080"/>
                          </a:solidFill>
                          <a:uFillTx/>
                          <a:latin typeface="Arial"/>
                        </a:rPr>
                        <a:t>Time-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Mor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l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g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Appreci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N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Wake-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I’m a Rainb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Special Pl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Trans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e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umm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Energy Ba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Eagle Wisd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Yogi Ben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Tran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Inner Moun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Animal Fri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Inner Advi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Te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ou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lternate Nost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M-B Rest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Fly Like a Butterf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Stop the R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Cha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Create Affi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Watch Self on Televi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Compl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un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eph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Wash-T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Jam S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Pass the Squee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Circle of Fri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End of 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Music Imag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Gra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Guiding S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Calligraphy"/>
              </a:rPr>
              <a:t>Good Morning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Come Together, Be Alert, Energized, Grounded and Peace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radley Hand ITC"/>
              </a:rPr>
              <a:t>Breat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Balloon Bre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Hissing (Snake Breat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radley Hand ITC"/>
              </a:rPr>
              <a:t>Time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I’m a Rainb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Special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radley Hand ITC"/>
              </a:rPr>
              <a:t>Games/Exer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All Good Things(Positive inten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Receiving Love and L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Nature G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Wake Up Y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Mou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Blown Pa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Water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Half Sun Sal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Rag Do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Warrior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Downward Facing D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Dra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F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Twisting Star/Windm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Folding 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Transitio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Helps to maximize the benefits of break times between subjects and minimize time spent settling back into 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Brea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Bear Br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Humming Br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Time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Inner Mou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Animal Fri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Inner Ad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Energy B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Eagle Wisdom 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Back to Mou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Yogi Be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Yo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R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Down D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Dra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Ragdo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Mou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Half Sun Sal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Warrior I and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Extended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Test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Calligraphy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Lucida Calligraphy"/>
              </a:rPr>
              <a:t>To feel centered is to experience one’s psychological center of gravity-a solid integration of mind and body.  Knowing how to feel centered is as important to young people as knowing how to read, write and brush the teeth.”  Dr. Gay Hendr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Brea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Sounding Br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Alternate Nostril Br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Tim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Create Your Own Affi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Watching Yourself On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Muscle Test Experiment for Positive and Nega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Eye Stre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Brain Ma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Fly Like a Butter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Drink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Stop the Rock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Yoga in Your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Head and Neck Stre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Chair Tw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Forward B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Arching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Cam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Blown Pal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Puppy Dog holding back of Ch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Crescent holding back of ch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Standing Ri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adley Hand ITC"/>
              </a:rPr>
              <a:t>Standing Pige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ff"/>
                </a:solidFill>
                <a:latin typeface="Lucida Calligraphy"/>
              </a:rPr>
              <a:t>“</a:t>
            </a:r>
            <a:r>
              <a:rPr b="0" lang="en-US" sz="4000" spc="-1" strike="noStrike">
                <a:solidFill>
                  <a:srgbClr val="9999ff"/>
                </a:solidFill>
                <a:latin typeface="Lucida Calligraphy"/>
              </a:rPr>
              <a:t>Yoga creates S P A C E between your FEELINGS and BEHAVIOR to make healthy choices.” </a:t>
            </a:r>
            <a:r>
              <a:rPr b="0" lang="en-US" sz="1800" spc="-1" strike="noStrike">
                <a:solidFill>
                  <a:srgbClr val="9999ff"/>
                </a:solidFill>
                <a:latin typeface="Lucida Calligraphy"/>
              </a:rPr>
              <a:t>Robin App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77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Completion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Yoga Tools to seal in your learning and leave in a balanced, healthy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Brea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Bunny Br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Elephant Br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Time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Listening to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Awakening Gratitude to Has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Guiding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Ga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Washing Out-Tapping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Jazzy J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Pass the Squ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Circle of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Yoga to End th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Sitting Tw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Rocking Ho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B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Hug Knees into Ch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Lying Tw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Constructive 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Yoga at Your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Rag D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Twisting 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Fr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Mount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Standing Sh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Warr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Yoga 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Down D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Twisting Drag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C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Rocking Ho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04920" y="1600200"/>
            <a:ext cx="83055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zal Tov Teachers,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ou are now Yoga Educated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Benefits of Yo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Yoga is non-com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Yoga requires staying present, developing focus and concen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Yoga is practical, low-cost preventative medic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Yoga creates balance, integration, flexibility and qu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Yoga expands and enriches awareness and the experience of our inner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Yoga is not an intellectual process; it is experiential and so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Medical science identifi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self-awareness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and the ability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self-care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as two key factors in maintaining  a lifetime of health and well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388620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Yoga Tools for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skerville Old Face"/>
              </a:rPr>
              <a:t>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askerville Old Face"/>
              </a:rPr>
              <a:t>intention</a:t>
            </a:r>
            <a:r>
              <a:rPr b="0" lang="en-US" sz="2600" spc="-1" strike="noStrike">
                <a:solidFill>
                  <a:srgbClr val="000000"/>
                </a:solidFill>
                <a:latin typeface="Baskerville Old Face"/>
              </a:rPr>
              <a:t> of Yoga Tools for Teachers is to nourish, balance and support the </a:t>
            </a:r>
            <a:r>
              <a:rPr b="0" i="1" lang="en-US" sz="2600" spc="-1" strike="noStrike">
                <a:solidFill>
                  <a:srgbClr val="000000"/>
                </a:solidFill>
                <a:latin typeface="Baskerville Old Face"/>
              </a:rPr>
              <a:t>TEACHER</a:t>
            </a:r>
            <a:r>
              <a:rPr b="0" lang="en-US" sz="2600" spc="-1" strike="noStrike">
                <a:solidFill>
                  <a:srgbClr val="000000"/>
                </a:solidFill>
                <a:latin typeface="Baskerville Old Face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Baskerville Old Face"/>
              </a:rPr>
              <a:t>STUDENT</a:t>
            </a:r>
            <a:r>
              <a:rPr b="0" lang="en-US" sz="2600" spc="-1" strike="noStrike">
                <a:solidFill>
                  <a:srgbClr val="000000"/>
                </a:solidFill>
                <a:latin typeface="Baskerville Old Face"/>
              </a:rPr>
              <a:t>.  Although it seems to be taking time away from “getting things done,” it actually supports achieving one’s desired goals by releasing tension and stress that obstruct optimal lear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skerville Old Face"/>
              </a:rPr>
              <a:t>Yoga tools help transform the teacher’s inner state from:  chaos to calm, frustration to finesse, tired to energized, tense to relaxed, or distracted to focused in just a few minut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skerville Old Face"/>
              </a:rPr>
              <a:t>If the teacher is “being” calm, alert and focused, this elicits the same states in their students (“Positive Behavior Modeling”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Yoga Tools for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All Yoga Tools are designed for the classroom, requires no extra equipment and take 5-15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Yoga Tools are proven behavior-and classroom-management techniques that enable the students to focus, concentrate and fully participate in the learn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Yoga Tools work best as a continuing practice, and part of the daily rout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Yoga Ed. Tools for Teachers Addresses the Challenges Teachers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Obesity rates at are at an all time hi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ADD/ADHD diagnosis rates are increasing among you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Increased rates of stress, decreasing attention spans, levels of concentration and social skills are becoming more problema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Academic achievement in public schools is at new l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Incidences of bullying and violence in schools are increa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73392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Yoga Ed. Tools for Teachers Address the Challenges Children Fa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Children are emotionally and physiologically stressed, over-stimulated and adversely affected by toxins in food, the environment and the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Stress=Disease; it threatens our health, damages our bodies, and inhibits our ability to learn and grow.  Body movement and breath are the best antido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If interested in research supporting yoga’s impact on children and children with ADD/ADHD, please see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2286000" cy="2141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362320" y="2362320"/>
            <a:ext cx="24382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Bernard MT Condensed"/>
              </a:rPr>
              <a:t>The Science of Yo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Baskerville Old Face"/>
              </a:rPr>
              <a:t>Scientific research on the neuro-physiology of yoga demonstrates that it is truly the “world’s oldest and most perfect form of exercise.” (Gessner Gey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Baskerville Old Face"/>
              </a:rPr>
              <a:t>Yoga has demonstrable efficacy in reducing stress, achieving emotional balance, developing focus and enhancing cog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Baskerville Old Face"/>
              </a:rPr>
              <a:t>Yoga improves cardiovascular, respiratory, musculoskeletal, endocrine and nervous system heal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468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Bernard MT Condensed"/>
              </a:rPr>
              <a:t>The Science of Yo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Baskerville Old Face"/>
              </a:rPr>
              <a:t>When the fight-or-flight response is activated the body produces adrenalin and cortisol which cause the heart rate to speed up, the breath to become shallow, the eye muscles to expand, a tightening of lower back and neck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Baskerville Old Face"/>
              </a:rPr>
              <a:t>Yoga Tools de-stress and bring the body-mind back to a safe, and open state where learning i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Baskerville Old Face"/>
              </a:rPr>
              <a:t>Yoga breathing and moving dissipates the physiological consequences of the stress response in the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01:17:17Z</dcterms:created>
  <dc:creator>stillman shoshana</dc:creator>
  <dc:description/>
  <dc:language>en-US</dc:language>
  <cp:lastModifiedBy>Moriah</cp:lastModifiedBy>
  <dcterms:modified xsi:type="dcterms:W3CDTF">2008-11-20T16:03:49Z</dcterms:modified>
  <cp:revision>19</cp:revision>
  <dc:subject/>
  <dc:title>Yoga Ed.</dc:title>
</cp:coreProperties>
</file>